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158413" cy="8305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19D8-22A1-42BC-8A7C-4A275F74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3300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9378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80132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D7C-E2F6-46DC-A88D-4B1CBFEE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3300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937880"/>
            <a:ext cx="44622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937880"/>
            <a:ext cx="44622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801320"/>
            <a:ext cx="44622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801320"/>
            <a:ext cx="44622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95B-1EFD-4102-85DC-EC2AFB0A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3300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937880"/>
            <a:ext cx="294408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937880"/>
            <a:ext cx="294408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937880"/>
            <a:ext cx="294408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801320"/>
            <a:ext cx="294408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801320"/>
            <a:ext cx="294408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801320"/>
            <a:ext cx="294408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745-49F3-4E06-83D3-43237C42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3300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937880"/>
            <a:ext cx="914400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E35F-5687-4AFC-9BAC-3E3F9CB8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3300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937880"/>
            <a:ext cx="914400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34C3-3D08-4394-82B7-A39B7E6E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3300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937880"/>
            <a:ext cx="446220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937880"/>
            <a:ext cx="446220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698-0297-407C-B07F-92D42385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3300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78F-2E08-4C35-9987-16CFBACB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33000"/>
            <a:ext cx="914400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AA7B-8AFB-442F-8A4E-AE22CD42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3300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937880"/>
            <a:ext cx="44622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937880"/>
            <a:ext cx="446220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801320"/>
            <a:ext cx="44622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37FA-1FD2-413C-B220-CEDA5877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3300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937880"/>
            <a:ext cx="446220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937880"/>
            <a:ext cx="44622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801320"/>
            <a:ext cx="44622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B5C-F502-4373-8F2C-2DF12A5D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3300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937880"/>
            <a:ext cx="44622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937880"/>
            <a:ext cx="44622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80132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D0EE-67C4-4445-99E2-5EF44451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3300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937880"/>
            <a:ext cx="914400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697880"/>
            <a:ext cx="237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697880"/>
            <a:ext cx="3216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697880"/>
            <a:ext cx="237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0C3F-3BDD-4391-99E0-0C9E72FD2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MSOfficePNG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33440" y="1257480"/>
            <a:ext cx="2718000" cy="1460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MSOfficePNG(1)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2463840" y="4648320"/>
            <a:ext cx="2717640" cy="1473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MSOfficePNG(2).png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4724280" y="5530680"/>
            <a:ext cx="2718000" cy="1587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MSOfficePNG(3).png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6699240" y="3530520"/>
            <a:ext cx="2705040" cy="1625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MSOfficePNG(4).png"/>
          <p:cNvPicPr/>
          <p:nvPr/>
        </p:nvPicPr>
        <p:blipFill>
          <a:blip r:embed="rId5">
            <a:alphaModFix amt="0"/>
          </a:blip>
          <a:stretch/>
        </p:blipFill>
        <p:spPr>
          <a:xfrm>
            <a:off x="5543640" y="2190600"/>
            <a:ext cx="2755800" cy="1562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MSOfficePNG(5).png"/>
          <p:cNvPicPr/>
          <p:nvPr/>
        </p:nvPicPr>
        <p:blipFill>
          <a:blip r:embed="rId6">
            <a:alphaModFix amt="0"/>
          </a:blip>
          <a:stretch/>
        </p:blipFill>
        <p:spPr>
          <a:xfrm>
            <a:off x="4273560" y="3772080"/>
            <a:ext cx="2755800" cy="1549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MSOfficePNG(6).png"/>
          <p:cNvPicPr/>
          <p:nvPr/>
        </p:nvPicPr>
        <p:blipFill>
          <a:blip r:embed="rId7">
            <a:alphaModFix amt="0"/>
          </a:blip>
          <a:stretch/>
        </p:blipFill>
        <p:spPr>
          <a:xfrm>
            <a:off x="647640" y="2781360"/>
            <a:ext cx="2692440" cy="1422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MSOfficePNG(7).png"/>
          <p:cNvPicPr/>
          <p:nvPr/>
        </p:nvPicPr>
        <p:blipFill>
          <a:blip r:embed="rId8">
            <a:alphaModFix amt="0"/>
          </a:blip>
          <a:stretch/>
        </p:blipFill>
        <p:spPr>
          <a:xfrm>
            <a:off x="5060880" y="1104840"/>
            <a:ext cx="2730600" cy="1447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MSOfficePNG(8).png"/>
          <p:cNvPicPr/>
          <p:nvPr/>
        </p:nvPicPr>
        <p:blipFill>
          <a:blip r:embed="rId9">
            <a:alphaModFix amt="0"/>
          </a:blip>
          <a:stretch/>
        </p:blipFill>
        <p:spPr>
          <a:xfrm>
            <a:off x="2635200" y="2476440"/>
            <a:ext cx="2679840" cy="1447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MSOfficePNG(9).png"/>
          <p:cNvPicPr/>
          <p:nvPr/>
        </p:nvPicPr>
        <p:blipFill>
          <a:blip r:embed="rId10">
            <a:alphaModFix amt="0"/>
          </a:blip>
          <a:stretch/>
        </p:blipFill>
        <p:spPr>
          <a:xfrm>
            <a:off x="1339920" y="5759280"/>
            <a:ext cx="2705040" cy="1460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11"/>
          <p:cNvSpPr/>
          <p:nvPr/>
        </p:nvSpPr>
        <p:spPr>
          <a:xfrm>
            <a:off x="2374920" y="203040"/>
            <a:ext cx="52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b"/>
                </a:solidFill>
                <a:latin typeface="Arial - 36"/>
              </a:rPr>
              <a:t>Delegates Want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2565360" y="26676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b"/>
                </a:solidFill>
                <a:latin typeface="Arial - 36"/>
              </a:rPr>
              <a:t>Picking a Vice Pres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565360" y="266760"/>
            <a:ext cx="52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b"/>
                </a:solidFill>
                <a:latin typeface="Arial - 36"/>
              </a:rPr>
              <a:t>Deb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town_hall_debate[1]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362320" y="4000680"/>
            <a:ext cx="5405400" cy="3382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lipboard(4)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57200" y="1003320"/>
            <a:ext cx="3755880" cy="2695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image647625g[1].jpg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5791320" y="958680"/>
            <a:ext cx="34192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565360" y="266760"/>
            <a:ext cx="52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b"/>
                </a:solidFill>
                <a:latin typeface="Arial - 36"/>
              </a:rPr>
              <a:t>October Surp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lipboard(3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4160" y="1943280"/>
            <a:ext cx="538452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536840" y="482760"/>
            <a:ext cx="695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e"/>
                </a:solidFill>
                <a:latin typeface="Arial - 36"/>
              </a:rPr>
              <a:t>Ways to get the Nomin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e"/>
                </a:solidFill>
                <a:latin typeface="Arial - 36"/>
              </a:rPr>
              <a:t>V</a:t>
            </a:r>
            <a:r>
              <a:rPr b="0" lang="en-US" sz="3600" spc="-1" strike="noStrike">
                <a:solidFill>
                  <a:srgbClr val="0000ff"/>
                </a:solidFill>
                <a:latin typeface="Arial - 36"/>
              </a:rPr>
              <a:t>ot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797280" y="2158920"/>
            <a:ext cx="25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- 24"/>
              </a:rPr>
              <a:t>Closed Pri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6"/>
          <p:cNvGrpSpPr/>
          <p:nvPr/>
        </p:nvGrpSpPr>
        <p:grpSpPr>
          <a:xfrm>
            <a:off x="3403440" y="2603520"/>
            <a:ext cx="3175200" cy="4610160"/>
            <a:chOff x="3403440" y="2603520"/>
            <a:chExt cx="3175200" cy="4610160"/>
          </a:xfrm>
        </p:grpSpPr>
        <p:sp>
          <p:nvSpPr>
            <p:cNvPr id="55" name="TextBox 3"/>
            <p:cNvSpPr/>
            <p:nvPr/>
          </p:nvSpPr>
          <p:spPr>
            <a:xfrm>
              <a:off x="3593880" y="2654280"/>
              <a:ext cx="29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Pros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C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traight Connector 4"/>
            <p:cNvSpPr/>
            <p:nvPr/>
          </p:nvSpPr>
          <p:spPr>
            <a:xfrm>
              <a:off x="4863960" y="2603520"/>
              <a:ext cx="0" cy="461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Straight Connector 5"/>
            <p:cNvSpPr/>
            <p:nvPr/>
          </p:nvSpPr>
          <p:spPr>
            <a:xfrm flipH="1">
              <a:off x="3403440" y="3073320"/>
              <a:ext cx="317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536840" y="482760"/>
            <a:ext cx="695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e"/>
                </a:solidFill>
                <a:latin typeface="Arial - 36"/>
              </a:rPr>
              <a:t>Ways to get the Nomin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e"/>
                </a:solidFill>
                <a:latin typeface="Arial - 36"/>
              </a:rPr>
              <a:t>V</a:t>
            </a:r>
            <a:r>
              <a:rPr b="0" lang="en-US" sz="3600" spc="-1" strike="noStrike">
                <a:solidFill>
                  <a:srgbClr val="0000ff"/>
                </a:solidFill>
                <a:latin typeface="Arial - 36"/>
              </a:rPr>
              <a:t>ot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3924360" y="2158920"/>
            <a:ext cx="23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- 24"/>
              </a:rPr>
              <a:t>Open Pri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6"/>
          <p:cNvGrpSpPr/>
          <p:nvPr/>
        </p:nvGrpSpPr>
        <p:grpSpPr>
          <a:xfrm>
            <a:off x="3403440" y="2603520"/>
            <a:ext cx="3175200" cy="4610160"/>
            <a:chOff x="3403440" y="2603520"/>
            <a:chExt cx="3175200" cy="4610160"/>
          </a:xfrm>
        </p:grpSpPr>
        <p:sp>
          <p:nvSpPr>
            <p:cNvPr id="61" name="TextBox 3"/>
            <p:cNvSpPr/>
            <p:nvPr/>
          </p:nvSpPr>
          <p:spPr>
            <a:xfrm>
              <a:off x="3593880" y="2654280"/>
              <a:ext cx="29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Pros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C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traight Connector 4"/>
            <p:cNvSpPr/>
            <p:nvPr/>
          </p:nvSpPr>
          <p:spPr>
            <a:xfrm>
              <a:off x="4863960" y="2603520"/>
              <a:ext cx="0" cy="461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traight Connector 5"/>
            <p:cNvSpPr/>
            <p:nvPr/>
          </p:nvSpPr>
          <p:spPr>
            <a:xfrm flipH="1">
              <a:off x="3403440" y="3073320"/>
              <a:ext cx="317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clipboard(2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2600" y="723960"/>
            <a:ext cx="10160280" cy="666432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752480" y="152280"/>
            <a:ext cx="69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e"/>
                </a:solidFill>
                <a:latin typeface="Arial - 36"/>
              </a:rPr>
              <a:t>Primary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536840" y="482760"/>
            <a:ext cx="695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e"/>
                </a:solidFill>
                <a:latin typeface="Arial - 36"/>
              </a:rPr>
              <a:t>Ways to get the Nomin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e"/>
                </a:solidFill>
                <a:latin typeface="Arial - 36"/>
              </a:rPr>
              <a:t>V</a:t>
            </a:r>
            <a:r>
              <a:rPr b="0" lang="en-US" sz="3600" spc="-1" strike="noStrike">
                <a:solidFill>
                  <a:srgbClr val="0000ff"/>
                </a:solidFill>
                <a:latin typeface="Arial - 36"/>
              </a:rPr>
              <a:t>ot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3924360" y="2158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- 24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 - 24"/>
              </a:rPr>
              <a:t>Cau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6"/>
          <p:cNvGrpSpPr/>
          <p:nvPr/>
        </p:nvGrpSpPr>
        <p:grpSpPr>
          <a:xfrm>
            <a:off x="3403440" y="2603520"/>
            <a:ext cx="3175200" cy="4610160"/>
            <a:chOff x="3403440" y="2603520"/>
            <a:chExt cx="3175200" cy="4610160"/>
          </a:xfrm>
        </p:grpSpPr>
        <p:sp>
          <p:nvSpPr>
            <p:cNvPr id="69" name="TextBox 3"/>
            <p:cNvSpPr/>
            <p:nvPr/>
          </p:nvSpPr>
          <p:spPr>
            <a:xfrm>
              <a:off x="3593880" y="2654280"/>
              <a:ext cx="29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Pros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C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Straight Connector 4"/>
            <p:cNvSpPr/>
            <p:nvPr/>
          </p:nvSpPr>
          <p:spPr>
            <a:xfrm>
              <a:off x="4863960" y="2603520"/>
              <a:ext cx="0" cy="461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5"/>
            <p:cNvSpPr/>
            <p:nvPr/>
          </p:nvSpPr>
          <p:spPr>
            <a:xfrm flipH="1">
              <a:off x="3403440" y="3073320"/>
              <a:ext cx="317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20080205_055020_colorado_dem_caucus[1]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4160" y="-851040"/>
            <a:ext cx="10159920" cy="878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clipboard(1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560" y="717480"/>
            <a:ext cx="10159920" cy="666432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1828800" y="12708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e"/>
                </a:solidFill>
                <a:latin typeface="Arial - 36"/>
              </a:rPr>
              <a:t>Caucus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536840" y="482760"/>
            <a:ext cx="695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e"/>
                </a:solidFill>
                <a:latin typeface="Arial - 36"/>
              </a:rPr>
              <a:t>Ways to get the Nomin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e"/>
                </a:solidFill>
                <a:latin typeface="Arial - 36"/>
              </a:rPr>
              <a:t>S</a:t>
            </a:r>
            <a:r>
              <a:rPr b="0" lang="en-US" sz="3600" spc="-1" strike="noStrike">
                <a:solidFill>
                  <a:srgbClr val="0000ff"/>
                </a:solidFill>
                <a:latin typeface="Arial - 36"/>
              </a:rPr>
              <a:t>uper delegates (Dems onl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superdelegates_sac0213cd[1]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8320" y="2089080"/>
            <a:ext cx="635004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2616120" y="22860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b"/>
                </a:solidFill>
                <a:latin typeface="Arial - 36"/>
              </a:rPr>
              <a:t>Nomination Conv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gall.convention04.gi[1]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30120" y="1104840"/>
            <a:ext cx="9399600" cy="61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8:22:02Z</dcterms:created>
  <dc:creator>Brent J. Freccia</dc:creator>
  <dc:description/>
  <dc:language>en-US</dc:language>
  <cp:lastModifiedBy>Brent J. Freccia</cp:lastModifiedBy>
  <dcterms:modified xsi:type="dcterms:W3CDTF">2010-01-26T18:22:36Z</dcterms:modified>
  <cp:revision>2</cp:revision>
  <dc:subject/>
  <dc:title>Slide 1</dc:title>
</cp:coreProperties>
</file>